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25EA-12D0-484F-A607-913529B1D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CF09-A73E-4383-A2B6-D31BBB4C6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09BE-8663-4643-9C23-666C276C4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8512-96B0-4F93-AE06-52C1F1067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B76D-C25F-4B1A-916C-20D06213F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33E-B735-468F-8713-961C8060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AE3F-56F9-4E52-B499-0E970C2E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4790-FB7D-4F90-86D1-D309E572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D40B-F687-4513-B0C8-563E264A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EE99-0D26-4644-8D35-0334A3CE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1036-26A2-4C3B-B83F-F6E362E5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91A3-19F0-451D-B3F3-9E93401D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AC4C-2DEB-45D4-A51D-2FBEDA86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4051-AB9F-4791-B24C-F5EB1DEA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175-99ED-478E-8DD5-CE2673C4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D12A-BDE9-4345-A9D3-C59AC8AF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9622-EF09-4602-B081-08EBCADD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F048-EDDE-4FB1-9156-D3A707C8B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3520" y="1371600"/>
            <a:ext cx="79246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t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dd a review to Desti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609480" y="0"/>
            <a:ext cx="7848720" cy="490536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762120" y="51814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arch for your boo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5048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685800" y="52578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on the title of the book you are revie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"/>
          <p:cNvSpPr/>
          <p:nvPr/>
        </p:nvSpPr>
        <p:spPr>
          <a:xfrm>
            <a:off x="1143000" y="2514600"/>
            <a:ext cx="2514600" cy="380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Notched Right Arrow 4"/>
          <p:cNvSpPr/>
          <p:nvPr/>
        </p:nvSpPr>
        <p:spPr>
          <a:xfrm rot="16424400">
            <a:off x="1008360" y="3842280"/>
            <a:ext cx="2249640" cy="615960"/>
          </a:xfrm>
          <a:custGeom>
            <a:avLst/>
            <a:gdLst>
              <a:gd name="textAreaLeft" fmla="*/ 154080 w 2249640"/>
              <a:gd name="textAreaRight" fmla="*/ 2095560 w 2249640"/>
              <a:gd name="textAreaTop" fmla="*/ 154080 h 615960"/>
              <a:gd name="textAreaBottom" fmla="*/ 462240 h 615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640" y="5400"/>
                </a:lnTo>
                <a:lnTo>
                  <a:pt x="18640" y="0"/>
                </a:lnTo>
                <a:lnTo>
                  <a:pt x="21600" y="10800"/>
                </a:lnTo>
                <a:lnTo>
                  <a:pt x="18640" y="21600"/>
                </a:lnTo>
                <a:lnTo>
                  <a:pt x="18640" y="16200"/>
                </a:lnTo>
                <a:lnTo>
                  <a:pt x="0" y="16200"/>
                </a:lnTo>
                <a:lnTo>
                  <a:pt x="148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Oval 2"/>
          <p:cNvSpPr/>
          <p:nvPr/>
        </p:nvSpPr>
        <p:spPr>
          <a:xfrm>
            <a:off x="7238880" y="1752480"/>
            <a:ext cx="990720" cy="533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304920" y="5943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on the reviews t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Notched Right Arrow 4"/>
          <p:cNvSpPr/>
          <p:nvPr/>
        </p:nvSpPr>
        <p:spPr>
          <a:xfrm rot="19170600">
            <a:off x="2363760" y="3619080"/>
            <a:ext cx="5562720" cy="762120"/>
          </a:xfrm>
          <a:custGeom>
            <a:avLst/>
            <a:gdLst>
              <a:gd name="textAreaLeft" fmla="*/ 190080 w 5562720"/>
              <a:gd name="textAreaRight" fmla="*/ 5372640 w 55627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122" y="5400"/>
                </a:lnTo>
                <a:lnTo>
                  <a:pt x="20122" y="0"/>
                </a:lnTo>
                <a:lnTo>
                  <a:pt x="21600" y="10800"/>
                </a:lnTo>
                <a:lnTo>
                  <a:pt x="20122" y="21600"/>
                </a:lnTo>
                <a:lnTo>
                  <a:pt x="20122" y="16200"/>
                </a:lnTo>
                <a:lnTo>
                  <a:pt x="0" y="16200"/>
                </a:lnTo>
                <a:lnTo>
                  <a:pt x="73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3" name="Oval 2"/>
          <p:cNvSpPr/>
          <p:nvPr/>
        </p:nvSpPr>
        <p:spPr>
          <a:xfrm>
            <a:off x="7315200" y="1981080"/>
            <a:ext cx="1371600" cy="6858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838080" y="57913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on the Add Review bu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Notched Right Arrow 4"/>
          <p:cNvSpPr/>
          <p:nvPr/>
        </p:nvSpPr>
        <p:spPr>
          <a:xfrm rot="18943800">
            <a:off x="3865320" y="3830400"/>
            <a:ext cx="4282920" cy="720720"/>
          </a:xfrm>
          <a:custGeom>
            <a:avLst/>
            <a:gdLst>
              <a:gd name="textAreaLeft" fmla="*/ 179640 w 4282920"/>
              <a:gd name="textAreaRight" fmla="*/ 4103280 w 42829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785" y="5400"/>
                </a:lnTo>
                <a:lnTo>
                  <a:pt x="19785" y="0"/>
                </a:lnTo>
                <a:lnTo>
                  <a:pt x="21600" y="10800"/>
                </a:lnTo>
                <a:lnTo>
                  <a:pt x="19785" y="21600"/>
                </a:lnTo>
                <a:lnTo>
                  <a:pt x="19785" y="16200"/>
                </a:lnTo>
                <a:lnTo>
                  <a:pt x="0" y="16200"/>
                </a:lnTo>
                <a:lnTo>
                  <a:pt x="90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609480" y="0"/>
            <a:ext cx="8001000" cy="500076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609480" y="51055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on the number of stars you want to give the book (1 = bad, 5 = aweso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3"/>
          <p:cNvSpPr/>
          <p:nvPr/>
        </p:nvSpPr>
        <p:spPr>
          <a:xfrm>
            <a:off x="2362320" y="2133720"/>
            <a:ext cx="1981080" cy="7617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Notched Right Arrow 4"/>
          <p:cNvSpPr/>
          <p:nvPr/>
        </p:nvSpPr>
        <p:spPr>
          <a:xfrm rot="16200000">
            <a:off x="2171880" y="3619440"/>
            <a:ext cx="2133360" cy="990720"/>
          </a:xfrm>
          <a:custGeom>
            <a:avLst/>
            <a:gdLst>
              <a:gd name="textAreaLeft" fmla="*/ 247320 w 2133360"/>
              <a:gd name="textAreaRight" fmla="*/ 1886040 w 21333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586" y="5400"/>
                </a:lnTo>
                <a:lnTo>
                  <a:pt x="16586" y="0"/>
                </a:lnTo>
                <a:lnTo>
                  <a:pt x="21600" y="10800"/>
                </a:lnTo>
                <a:lnTo>
                  <a:pt x="16586" y="21600"/>
                </a:lnTo>
                <a:lnTo>
                  <a:pt x="16586" y="16200"/>
                </a:lnTo>
                <a:lnTo>
                  <a:pt x="0" y="16200"/>
                </a:lnTo>
                <a:lnTo>
                  <a:pt x="250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304920" y="530388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your Microsoft Word document on the task bar (it should still be on the bottom of your scre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412120" cy="5257800"/>
          </a:xfrm>
          <a:prstGeom prst="rect">
            <a:avLst/>
          </a:prstGeom>
          <a:ln w="0">
            <a:noFill/>
          </a:ln>
        </p:spPr>
      </p:pic>
      <p:sp>
        <p:nvSpPr>
          <p:cNvPr id="92" name="Oval 3"/>
          <p:cNvSpPr/>
          <p:nvPr/>
        </p:nvSpPr>
        <p:spPr>
          <a:xfrm>
            <a:off x="1905120" y="4876920"/>
            <a:ext cx="1600200" cy="6094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1295280" y="51055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 your review and copy it.  (either ctrl and c or right click and cop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7848360" cy="4905360"/>
          </a:xfrm>
          <a:prstGeom prst="rect">
            <a:avLst/>
          </a:prstGeom>
          <a:ln w="0">
            <a:noFill/>
          </a:ln>
        </p:spPr>
      </p:pic>
      <p:sp>
        <p:nvSpPr>
          <p:cNvPr id="95" name="Oval 3"/>
          <p:cNvSpPr/>
          <p:nvPr/>
        </p:nvSpPr>
        <p:spPr>
          <a:xfrm>
            <a:off x="3048120" y="1905120"/>
            <a:ext cx="1295280" cy="304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304920" y="0"/>
            <a:ext cx="8381880" cy="52387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0" y="5791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Destiny in the task bar to maximize it (it should still be on the bottom of your scree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"/>
          <p:cNvSpPr/>
          <p:nvPr/>
        </p:nvSpPr>
        <p:spPr>
          <a:xfrm>
            <a:off x="2971800" y="4952880"/>
            <a:ext cx="1295280" cy="3812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Notched Right Arrow 5"/>
          <p:cNvSpPr/>
          <p:nvPr/>
        </p:nvSpPr>
        <p:spPr>
          <a:xfrm rot="20677200">
            <a:off x="1676160" y="5181120"/>
            <a:ext cx="1360440" cy="549360"/>
          </a:xfrm>
          <a:custGeom>
            <a:avLst/>
            <a:gdLst>
              <a:gd name="textAreaLeft" fmla="*/ 137160 w 1360440"/>
              <a:gd name="textAreaRight" fmla="*/ 1223280 w 136044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43" y="5400"/>
                </a:lnTo>
                <a:lnTo>
                  <a:pt x="17243" y="0"/>
                </a:lnTo>
                <a:lnTo>
                  <a:pt x="21600" y="10800"/>
                </a:lnTo>
                <a:lnTo>
                  <a:pt x="17243" y="21600"/>
                </a:lnTo>
                <a:lnTo>
                  <a:pt x="17243" y="16200"/>
                </a:lnTo>
                <a:lnTo>
                  <a:pt x="0" y="16200"/>
                </a:lnTo>
                <a:lnTo>
                  <a:pt x="217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09480" y="0"/>
            <a:ext cx="8001000" cy="50007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0" y="4800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in the empty box under “Enter your comments below…”                               Paste your re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ither ctrl and v or right click and past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838080" y="2133720"/>
            <a:ext cx="4419720" cy="1676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458200" cy="52862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2760120" y="5715000"/>
            <a:ext cx="320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on s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Notched Right Arrow 3"/>
          <p:cNvSpPr/>
          <p:nvPr/>
        </p:nvSpPr>
        <p:spPr>
          <a:xfrm rot="18943200">
            <a:off x="3306600" y="3176280"/>
            <a:ext cx="5139000" cy="1523880"/>
          </a:xfrm>
          <a:custGeom>
            <a:avLst/>
            <a:gdLst>
              <a:gd name="textAreaLeft" fmla="*/ 380880 w 5139000"/>
              <a:gd name="textAreaRight" fmla="*/ 4758120 w 5139000"/>
              <a:gd name="textAreaTop" fmla="*/ 380880 h 1523880"/>
              <a:gd name="textAreaBottom" fmla="*/ 11430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397" y="5400"/>
                </a:lnTo>
                <a:lnTo>
                  <a:pt x="18397" y="0"/>
                </a:lnTo>
                <a:lnTo>
                  <a:pt x="21600" y="10800"/>
                </a:lnTo>
                <a:lnTo>
                  <a:pt x="18397" y="21600"/>
                </a:lnTo>
                <a:lnTo>
                  <a:pt x="18397" y="16200"/>
                </a:lnTo>
                <a:lnTo>
                  <a:pt x="0" y="16200"/>
                </a:lnTo>
                <a:lnTo>
                  <a:pt x="160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"/>
          <p:cNvSpPr/>
          <p:nvPr/>
        </p:nvSpPr>
        <p:spPr>
          <a:xfrm>
            <a:off x="7620120" y="1752480"/>
            <a:ext cx="990360" cy="304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457200" y="152280"/>
            <a:ext cx="8686800" cy="64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you need to open your review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 the “Office” Folder on your desk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click on Mircosoft Word icon--This opens a blank page.  Type your paper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ve your document. MINIMIZE the document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 the “Lab and Library Resources” folder on your desk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click on the Destiny i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 in to Destiny (User Name: your student number, Password: you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udent numb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on the Catalog t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 for the book you review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on the book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on the Reviews t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on the Add a Review button (if the button isn’t there, you aren’t logged in to Destiny!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on the number of stars you want to give the book (1 = bad, 5 = aweso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imize your word document with your review (it should still be on the bottom of your scr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your review and copy it.  (either ctrl and c or right click and cop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on Destiny in the task bar to maximize it (it should still be on the bottom of your scree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in the empty box under “Enter your comments below…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te your review (either ctrl and v or right click and past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on s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now will have to wait for Ms. Carver to approve the review before you see it on Destin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1066680" y="579132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eview will be posted as soon as it is approved by Ms. Ca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514600" y="1600200"/>
            <a:ext cx="4572000" cy="533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Notched Right Arrow 4"/>
          <p:cNvSpPr/>
          <p:nvPr/>
        </p:nvSpPr>
        <p:spPr>
          <a:xfrm rot="16200000">
            <a:off x="2727000" y="3596760"/>
            <a:ext cx="3537000" cy="914400"/>
          </a:xfrm>
          <a:custGeom>
            <a:avLst/>
            <a:gdLst>
              <a:gd name="textAreaLeft" fmla="*/ 228600 w 3537000"/>
              <a:gd name="textAreaRight" fmla="*/ 3308400 w 35370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807" y="5400"/>
                </a:lnTo>
                <a:lnTo>
                  <a:pt x="18807" y="0"/>
                </a:lnTo>
                <a:lnTo>
                  <a:pt x="21600" y="10800"/>
                </a:lnTo>
                <a:lnTo>
                  <a:pt x="18807" y="21600"/>
                </a:lnTo>
                <a:lnTo>
                  <a:pt x="18807" y="16200"/>
                </a:lnTo>
                <a:lnTo>
                  <a:pt x="0" y="16200"/>
                </a:lnTo>
                <a:lnTo>
                  <a:pt x="139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0"/>
          <p:cNvSpPr/>
          <p:nvPr/>
        </p:nvSpPr>
        <p:spPr>
          <a:xfrm>
            <a:off x="990720" y="5041800"/>
            <a:ext cx="670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the “Office” Folder on your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click on the Microsoft Office Word 2007 ic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rcRect l="8339" t="9694" r="8339" b="0"/>
          <a:stretch/>
        </p:blipFill>
        <p:spPr>
          <a:xfrm>
            <a:off x="1143000" y="762120"/>
            <a:ext cx="6288120" cy="42591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9"/>
          <p:cNvSpPr/>
          <p:nvPr/>
        </p:nvSpPr>
        <p:spPr>
          <a:xfrm>
            <a:off x="609480" y="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st you need to type your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0"/>
          <p:cNvSpPr/>
          <p:nvPr/>
        </p:nvSpPr>
        <p:spPr>
          <a:xfrm>
            <a:off x="3429000" y="3124080"/>
            <a:ext cx="1523880" cy="533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8333" t="0" r="8333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7"/>
          <p:cNvSpPr/>
          <p:nvPr/>
        </p:nvSpPr>
        <p:spPr>
          <a:xfrm>
            <a:off x="990720" y="4952880"/>
            <a:ext cx="716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now have a blank documen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your review on this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28600" y="0"/>
            <a:ext cx="8778960" cy="5486400"/>
          </a:xfrm>
          <a:prstGeom prst="rect">
            <a:avLst/>
          </a:prstGeom>
          <a:ln w="0">
            <a:noFill/>
          </a:ln>
        </p:spPr>
      </p:pic>
      <p:sp>
        <p:nvSpPr>
          <p:cNvPr id="57" name="TextBox 7"/>
          <p:cNvSpPr/>
          <p:nvPr/>
        </p:nvSpPr>
        <p:spPr>
          <a:xfrm>
            <a:off x="533520" y="54100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e the word document.  DO NOT CLOSE IT, just minim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The little dash icon in the top right corner minimizes the docu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ight Arrow 8"/>
          <p:cNvSpPr/>
          <p:nvPr/>
        </p:nvSpPr>
        <p:spPr>
          <a:xfrm rot="18517200">
            <a:off x="7613280" y="263520"/>
            <a:ext cx="1108080" cy="90504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0" t="9723" r="886" b="0"/>
          <a:stretch/>
        </p:blipFill>
        <p:spPr>
          <a:xfrm>
            <a:off x="0" y="0"/>
            <a:ext cx="9144000" cy="5205240"/>
          </a:xfrm>
          <a:prstGeom prst="rect">
            <a:avLst/>
          </a:prstGeom>
          <a:ln w="0">
            <a:noFill/>
          </a:ln>
        </p:spPr>
      </p:pic>
      <p:sp>
        <p:nvSpPr>
          <p:cNvPr id="60" name="Oval 5"/>
          <p:cNvSpPr/>
          <p:nvPr/>
        </p:nvSpPr>
        <p:spPr>
          <a:xfrm>
            <a:off x="1828800" y="838080"/>
            <a:ext cx="1676520" cy="6098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0" y="52578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on the desktop, double click on the Lab and Library Resources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click on the Destiny 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ice how our Microsoft Word document is on the task bar at the bottom of our scre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762120" y="0"/>
            <a:ext cx="7543800" cy="4714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380880" y="49528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Destiny, the library homepag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’ll need to log in to post a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"/>
          <p:cNvSpPr/>
          <p:nvPr/>
        </p:nvSpPr>
        <p:spPr>
          <a:xfrm>
            <a:off x="6781680" y="533520"/>
            <a:ext cx="990720" cy="8380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ight Arrow 5"/>
          <p:cNvSpPr/>
          <p:nvPr/>
        </p:nvSpPr>
        <p:spPr>
          <a:xfrm rot="18230400">
            <a:off x="3531960" y="2923920"/>
            <a:ext cx="4470480" cy="6858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09480" y="0"/>
            <a:ext cx="7848720" cy="490536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533520" y="50292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login to Desti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r Name: your student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sword: your student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7924680" cy="495288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304920" y="51814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on the catalog tab on the Destiny home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523880" y="914400"/>
            <a:ext cx="838440" cy="6094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4"/>
          <p:cNvSpPr/>
          <p:nvPr/>
        </p:nvSpPr>
        <p:spPr>
          <a:xfrm rot="16972800">
            <a:off x="-156960" y="2995200"/>
            <a:ext cx="3432240" cy="7146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3:35:29Z</dcterms:created>
  <dc:creator>STSD</dc:creator>
  <dc:description/>
  <dc:language>en-US</dc:language>
  <cp:lastModifiedBy>STSD</cp:lastModifiedBy>
  <dcterms:modified xsi:type="dcterms:W3CDTF">2011-03-08T16:06:02Z</dcterms:modified>
  <cp:revision>28</cp:revision>
  <dc:subject/>
  <dc:title>Slide 1</dc:title>
</cp:coreProperties>
</file>